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ct" ContentType="image/x-pict"/>
  <Override PartName="/ppt/media/image13.png" ContentType="image/png"/>
  <Override PartName="/ppt/media/image8.png" ContentType="image/png"/>
  <Override PartName="/ppt/media/image14.jpeg" ContentType="image/jpeg"/>
  <Override PartName="/ppt/media/image19.pct" ContentType="image/x-pict"/>
  <Override PartName="/ppt/media/image6.pct" ContentType="image/x-pict"/>
  <Override PartName="/ppt/media/image12.pct" ContentType="image/x-pict"/>
  <Override PartName="/ppt/media/image10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7.jpeg" ContentType="image/jpeg"/>
  <Override PartName="/ppt/media/image2.jpeg" ContentType="image/jpeg"/>
  <Override PartName="/ppt/media/image22.jpeg" ContentType="image/jpeg"/>
  <Override PartName="/ppt/media/image18.pct" ContentType="image/x-pict"/>
  <Override PartName="/ppt/media/image1.jpeg" ContentType="image/jpeg"/>
  <Override PartName="/ppt/media/image3.jpeg" ContentType="image/jpeg"/>
  <Override PartName="/ppt/media/image15.pct" ContentType="image/x-pict"/>
  <Override PartName="/ppt/media/image4.png" ContentType="image/png"/>
  <Override PartName="/ppt/media/image5.jpeg" ContentType="image/jpeg"/>
  <Override PartName="/ppt/media/image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7A0B-9E45-49A4-9198-3171DD1B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C87-6605-432E-A86F-F22660D7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F4A1-4E09-47A4-B9ED-14BD674E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C871-E335-46E3-A2CA-0B715BCF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A393-7849-4155-93DB-1B858437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3127-FE6B-4059-A967-8582285C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668A-D343-4A44-933C-C3EDFE89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1212-4F1E-4F16-A95C-FCEAAC31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B6FB-59CC-4AE9-BABC-C6E20058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F846-ABF9-4494-A800-AEED2D50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6219-3920-4E0A-AE48-0FF1CD9C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C44-AB71-4923-A6CB-9B0E6A48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A1A3-E462-4EAA-BDB6-779A9BA8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6D80-83FD-48CD-8CE9-DAA3F8DD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1E93-4C13-4D9C-9F2B-EDA8C1AC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B08C-1681-4ACB-911C-6A8264E6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843A-3AD6-410C-B314-55600D65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86D-F847-4412-A947-70D544C9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0A8A-F583-4722-BA68-F4FE6E6D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8BC-D8FC-420E-8528-BBBCE3EC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CBD-6539-409F-9F21-16057903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FA9F-7767-41B8-AF1B-8C37C0BB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BFB-5C9A-4159-8B17-B0855731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7BED-1841-4E7B-962D-C256FE29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CE32-906A-4D59-A55C-C54935C15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BA5D-A8A3-491B-B266-4F261386C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nswers.com/main/ntquery;jsessionid=1u2lh7lprr1xq?method=4&amp;dsname=Wikipedia+Images&amp;dekey=Lynching-of-lige-daniels.jpg&amp;gwp=8&amp;sbid=lc02b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961b5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4961b5"/>
                </a:solidFill>
                <a:latin typeface="Arial Black"/>
              </a:rPr>
              <a:t>Progressives Confront Industrial Capitalism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1981080"/>
            <a:ext cx="4495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America entered into the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, middle class reformers addressed many social problems  due to lack of government reg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ing conditions, rights for women and children, economic, political, environmental and social reform were a few of these iss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http://rds.yahoo.com/_ylt=A9gnMiIITBNHbzMBYT6jzbkF/SIG=12nbqt5d3/EXP=1192533384/**http%3A//healthandenergy.com/images/magnitka%2520smoke%2520stacks.jpg"/>
          <p:cNvPicPr/>
          <p:nvPr/>
        </p:nvPicPr>
        <p:blipFill>
          <a:blip r:embed="rId1"/>
          <a:stretch/>
        </p:blipFill>
        <p:spPr>
          <a:xfrm>
            <a:off x="4800600" y="1905120"/>
            <a:ext cx="401004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88920" y="636480"/>
            <a:ext cx="724068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914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961b5"/>
                </a:solidFill>
                <a:latin typeface="Arial Black"/>
              </a:rPr>
              <a:t>President </a:t>
            </a:r>
            <a:br>
              <a:rPr sz="5400"/>
            </a:br>
            <a:r>
              <a:rPr b="0" lang="en-US" sz="5400" spc="-1" strike="noStrike">
                <a:solidFill>
                  <a:srgbClr val="4961b5"/>
                </a:solidFill>
                <a:latin typeface="Arial Black"/>
              </a:rPr>
              <a:t>Woodrow Wilson</a:t>
            </a:r>
            <a:br>
              <a:rPr sz="5400"/>
            </a:br>
            <a:r>
              <a:rPr b="0" lang="en-US" sz="5400" spc="-1" strike="noStrike">
                <a:solidFill>
                  <a:srgbClr val="4961b5"/>
                </a:solidFill>
                <a:latin typeface="Arial Black"/>
              </a:rPr>
              <a:t>(1913-192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91760" y="6248520"/>
            <a:ext cx="329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www.visitingdc.com/images/woodrow-wilson-picture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124080" y="2905200"/>
            <a:ext cx="335304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lson’s Reform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13, Wilson helped initiate the </a:t>
            </a:r>
            <a:r>
              <a:rPr b="1" lang="en-US" sz="2400" spc="-1" strike="noStrike">
                <a:solidFill>
                  <a:srgbClr val="ff874a"/>
                </a:solidFill>
                <a:latin typeface="Arial"/>
              </a:rPr>
              <a:t>Federal Reserve 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helped prevent the banking industry from collapsing under the pressure of international panic by organizing 12 banks to act as reserves (the Federal Reserve Banks toda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76520" y="3124080"/>
            <a:ext cx="5715000" cy="3278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482640" y="6477120"/>
            <a:ext cx="2068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ttp://www.federalreserve.gov/OTHERFRB.HT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3049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8cb4"/>
                </a:solidFill>
                <a:latin typeface="Arial Black"/>
              </a:rPr>
              <a:t>FEDERAL TRADE COMMISSION FORM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648320" y="2133720"/>
            <a:ext cx="4267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TC was formed in 1914 to serve as a “watchdog” agency to e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fair business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TC protects consumers from business frau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FTC"/>
          <p:cNvPicPr/>
          <p:nvPr/>
        </p:nvPicPr>
        <p:blipFill>
          <a:blip r:embed="rId1"/>
          <a:stretch/>
        </p:blipFill>
        <p:spPr>
          <a:xfrm>
            <a:off x="609480" y="22096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380880" y="52578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day the FTC has been working on protecting consumers from ID th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8cb4"/>
                </a:solidFill>
                <a:latin typeface="Arial Black"/>
              </a:rPr>
              <a:t>Pressure by reformers led to changes in city, state, and federal government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562720" cy="4238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063240" y="6477120"/>
            <a:ext cx="288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blog.cleveland.com/pdextra/2007/08/photoe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Progressive Era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onstitutional Amendments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440" y="25909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th Amendment (1913) - Granted Congress the power to tax in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3889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Progressive Era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onstitutional Amendments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520" y="18288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0" indent="-2743200"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th (1913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4760" y="6689880"/>
            <a:ext cx="23526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cache.jezebel.com/assets/images/jezebel/2008/06/suffragettes6408.jp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343400" y="1981080"/>
            <a:ext cx="4038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1913, each state’s legislature had chosen its own U.S. sen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orce Senators to be more responsive to the public, Progressives pushed for the popular election of Sen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senate"/>
          <p:cNvPicPr/>
          <p:nvPr/>
        </p:nvPicPr>
        <p:blipFill>
          <a:blip r:embed="rId1"/>
          <a:stretch/>
        </p:blipFill>
        <p:spPr>
          <a:xfrm>
            <a:off x="669960" y="2514600"/>
            <a:ext cx="3063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Progressive Era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onstitutional Amendments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520" y="18288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88120" indent="-2688120"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th (1919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hibi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facture, sale of transportation of alcoh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8120" indent="-2688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pealed by 21st Amendment in 19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8120" indent="-2688120"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th (1920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ht of citizens to vote should not be denied or abridged by the US or any state on account of a citizen’s s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63640" y="4572000"/>
            <a:ext cx="2031840" cy="2286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894760" y="6689880"/>
            <a:ext cx="23526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cache.jezebel.com/assets/images/jezebel/2008/06/suffragettes6408.jp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914400" y="2362320"/>
            <a:ext cx="1981080" cy="1584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11520" y="3886200"/>
            <a:ext cx="1972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lordkaiserindustries.com/images/Prohibition.jp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8cb4"/>
                </a:solidFill>
                <a:latin typeface="Arial Black"/>
              </a:rPr>
              <a:t>Shortcomings of Progressive Era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work to do in terms of racial/ethnic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9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 which authorized the Commissioner of Indian Affairs "to make and enforce by proper means" rules and regulations to ensure that Indian children attended schools designed and administered by non-Indi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267080" y="3886200"/>
            <a:ext cx="2124360" cy="2286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057400" y="3886200"/>
            <a:ext cx="1976400" cy="2322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6320" y="6324480"/>
            <a:ext cx="27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a97"/>
                </a:solidFill>
                <a:latin typeface="Arial"/>
              </a:rPr>
              <a:t>Is this </a:t>
            </a:r>
            <a:r>
              <a:rPr b="0" lang="en-US" sz="2800" spc="-1" strike="noStrike">
                <a:solidFill>
                  <a:srgbClr val="e7c252"/>
                </a:solidFill>
                <a:latin typeface="Arial"/>
              </a:rPr>
              <a:t>progr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8cb4"/>
                </a:solidFill>
                <a:latin typeface="Arial Black"/>
              </a:rPr>
              <a:t>Shortcomings of Progressive Era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4647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laws legalized segregation of races and discrimination against African-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Postcard depicting the lynching of Lige Daniels, Center, Texas, USA, August 3, 1920. The back reads, &quot;This was made in the court yard in Center, Texas. He is a 16 year old Black boy. He killed Earl's grandma. She was Florence's mother. Give this to Bud. From Aunt Myrtle.&quot; As discussed in the article, lynchings were often motivated by economics, or were retaliations for violations of Jim Crow etiquette, with false accusations of murder made in order to justify them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219320"/>
            <a:ext cx="3292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3962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8cb4"/>
                </a:solidFill>
                <a:latin typeface="Arial Black"/>
              </a:rPr>
              <a:t>Muckraker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breed of journalist that was interested in the form of written whistle-blowing:  telling the readership what was wrong 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ed specific governments and businesses such as the meat-pac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781680" y="1676520"/>
            <a:ext cx="2292480" cy="3504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91120" y="1676520"/>
            <a:ext cx="22827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73915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8cb4"/>
                </a:solidFill>
                <a:latin typeface="Arial Black"/>
              </a:rPr>
              <a:t>Reform Movemen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76320" y="1295280"/>
            <a:ext cx="51814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number of child workers rose, reformers worked to e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ild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were more prone to accidents caused by 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rly every state limited or banned child labor by 19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worked to reduce length of workday for wom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astating fire at the Triangle Shirtwaist Company forced examination of  worker’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hild labor"/>
          <p:cNvPicPr/>
          <p:nvPr/>
        </p:nvPicPr>
        <p:blipFill>
          <a:blip r:embed="rId1"/>
          <a:stretch/>
        </p:blipFill>
        <p:spPr>
          <a:xfrm>
            <a:off x="5486400" y="1523880"/>
            <a:ext cx="3575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rsed better housing and health education to reduce problems of urban overcrowding (spread of diseases like cholera, typhoid, and tuberculosis) and establish early fire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saded against saloons, brothels and movie hou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ligious el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648320" cy="3587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10080" y="5486400"/>
            <a:ext cx="27432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5a97"/>
                </a:solidFill>
                <a:latin typeface="Arial"/>
              </a:rPr>
              <a:t>Inside a tenement buil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sphtc.org/timeline/19th13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168120"/>
            <a:ext cx="73915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8cb4"/>
                </a:solidFill>
                <a:latin typeface="Arial Black"/>
              </a:rPr>
              <a:t>Reform Movemen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8880" y="761760"/>
            <a:ext cx="8385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8cb4"/>
                </a:solidFill>
                <a:latin typeface="Arial Black"/>
              </a:rPr>
              <a:t>Labor Union Organizers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Federation of Labor – first large American labor union – put pressure on employers for better working conditions and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d on collective organizing and str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14800" y="2227320"/>
            <a:ext cx="4724280" cy="3106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0" y="5410080"/>
            <a:ext cx="39625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5a97"/>
                </a:solidFill>
                <a:latin typeface="Arial"/>
              </a:rPr>
              <a:t>Garment workers strike after Triangle Shirtwaist F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ttp://www.zazzle.com/lc_vintagephotos/posters?cg=19646845736606981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914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961b5"/>
                </a:solidFill>
                <a:latin typeface="Arial Black"/>
              </a:rPr>
              <a:t>President </a:t>
            </a:r>
            <a:br>
              <a:rPr sz="5400"/>
            </a:br>
            <a:r>
              <a:rPr b="0" lang="en-US" sz="5400" spc="-1" strike="noStrike">
                <a:solidFill>
                  <a:srgbClr val="4961b5"/>
                </a:solidFill>
                <a:latin typeface="Arial Black"/>
              </a:rPr>
              <a:t>Theodore Roosevelt</a:t>
            </a:r>
            <a:br>
              <a:rPr sz="5400"/>
            </a:br>
            <a:r>
              <a:rPr b="0" lang="en-US" sz="5400" spc="-1" strike="noStrike">
                <a:solidFill>
                  <a:srgbClr val="4961b5"/>
                </a:solidFill>
                <a:latin typeface="Arial Black"/>
              </a:rPr>
              <a:t>(1901-1909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19520" y="2819520"/>
            <a:ext cx="3924360" cy="3757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966040" y="6553080"/>
            <a:ext cx="355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http://www.visitingdc.com/images/theodore-roosevelt-picture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90960" y="6091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a97"/>
                </a:solidFill>
                <a:latin typeface="Arial Black"/>
              </a:rPr>
              <a:t>Trust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6" descr="trust busting"/>
          <p:cNvPicPr/>
          <p:nvPr/>
        </p:nvPicPr>
        <p:blipFill>
          <a:blip r:embed="rId1"/>
          <a:stretch/>
        </p:blipFill>
        <p:spPr>
          <a:xfrm>
            <a:off x="4724280" y="1600200"/>
            <a:ext cx="4151520" cy="44956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152280" y="380880"/>
            <a:ext cx="419112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y 1900,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Trusts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– legal bodies created to hold stock in many companies – controlled 80% of U.S. industri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osevelt wanted to control the actions of large industrial corporations that were consolidating, growing bigger and more powerfu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 directed the Justice Department to prosecute some of the largest corporations in the country under the 1890 Sherman Anti-Trust Act (in which Congress regulated </a:t>
            </a:r>
            <a:r>
              <a:rPr b="0" lang="en-US" sz="2100" spc="-1" strike="noStrike">
                <a:solidFill>
                  <a:srgbClr val="445a97"/>
                </a:solidFill>
                <a:latin typeface="Arial"/>
              </a:rPr>
              <a:t>inter-sta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ommerce to break up concentration of economic power in large corporations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477120" y="1663560"/>
            <a:ext cx="2336760" cy="3213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a97"/>
                </a:solidFill>
                <a:latin typeface="Arial Black"/>
              </a:rPr>
              <a:t>Food Safety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019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reform began in response to novel about Chicago meatpacking industry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Ju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to a Meat Inspection Act (1906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required federal inspection of all companies selling meat in interstate commerc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re Food and Drug Act (1906) prohibi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manufacture, sale, or transportation of adulterated or fraudulently labeled foods or drugs in interstate commerce and created the Food and Drug Administration (F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28320" y="4952880"/>
            <a:ext cx="2143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www.nytimes.com/2005/01/26/business/26meat.html?oref=log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43434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a97"/>
                </a:solidFill>
                <a:latin typeface="Arial Black"/>
              </a:rPr>
              <a:t>Conservatio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80880" y="1523880"/>
            <a:ext cx="4648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Roosevelt’s presidency, the federal government paid very little attention to the nation’s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sevelt </a:t>
            </a:r>
            <a:r>
              <a:rPr b="1" lang="en-US" sz="2400" spc="-1" strike="noStrike">
                <a:solidFill>
                  <a:srgbClr val="ff874a"/>
                </a:solidFill>
                <a:latin typeface="Arial"/>
              </a:rPr>
              <a:t>trip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and set aside for national forests, bringing the total to more than 150 million ac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d to increase public awareness of the importance of natural resources in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roosevelt 66"/>
          <p:cNvPicPr/>
          <p:nvPr/>
        </p:nvPicPr>
        <p:blipFill>
          <a:blip r:embed="rId1"/>
          <a:stretch/>
        </p:blipFill>
        <p:spPr>
          <a:xfrm>
            <a:off x="5443560" y="1492200"/>
            <a:ext cx="3014640" cy="37656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5486400" y="53341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sevelt, left, was an avid outdoorsman – here he is with author John Muir at Yosemite P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00:25:50Z</dcterms:created>
  <dc:creator> Todd Fibus</dc:creator>
  <dc:description/>
  <dc:language>en-US</dc:language>
  <cp:lastModifiedBy>user</cp:lastModifiedBy>
  <cp:lastPrinted>2010-03-23T17:26:21Z</cp:lastPrinted>
  <dcterms:modified xsi:type="dcterms:W3CDTF">2011-01-07T12:33:33Z</dcterms:modified>
  <cp:revision>71</cp:revision>
  <dc:subject/>
  <dc:title>Chapter 21 The Progressives Confront Industrial Capitalism</dc:title>
</cp:coreProperties>
</file>